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FDBC-395D-4FCC-ABE5-6CA1F1F4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0A8-8E61-4BEE-A8B4-8197AB7D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97DD-3130-44D1-885F-75D9CEBC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12F0-807A-4545-8FF8-4731BCE9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1434-125B-4E58-848C-92F100D8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E4BA-0E2D-4D6C-9084-3A07D983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E01-4367-4D11-A8EB-10EBDC24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3BDD-5E94-4EC2-95DD-D9963667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32D6-985F-42A8-939D-DE463EDB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7B4C-152C-4C87-B899-9B16854C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CE9-38A8-49DC-99C4-17B222DC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A22-A7D4-466C-A14E-71B23295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81023-CEBA-4736-8E69-15F044BCA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name:joa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name:kathl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born:yate gene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raised: chepstow gw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3:32:50Z</dcterms:created>
  <dc:creator/>
  <dc:description/>
  <dc:language>en-US</dc:language>
  <cp:lastModifiedBy/>
  <cp:revision>1</cp:revision>
  <dc:subject/>
  <dc:title/>
</cp:coreProperties>
</file>